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E29-0332-4AB0-A0BD-27A8D97E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m&amp;m’s last.. And remind students we’ll be using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62FA-69A2-4AC9-A91B-66345B088A2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393-F61D-4397-87C9-D87F4F1A311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formatting so spanish comes first and then english …add symbols &amp; 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94D-EAC0-49FE-B74C-D2F361CDF13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le appea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D56-2580-48BF-88C7-88862A27856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numbers in Spanish before leav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upside down ? in front of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B68-D8A6-4EF0-9116-1C9FD66BEB9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197-377F-46B2-AEF3-FD2034D3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CD3-B376-4BD8-A4F1-4E19771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4AE-4F58-416D-B11F-53D42C1A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BD7-AFD8-4B92-B72B-6928E7DF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9579-4CE1-4F49-8353-E9C07360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34E-1C97-4356-A617-BF3A334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0993-03DD-41E0-97BA-5CDB7DD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5528-70DA-424C-BEAC-B4A8F44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23E1-8C83-443B-869A-D311C3F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404-6BEB-49F7-B0F3-43CC35F5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4BA-A849-4D0F-AE89-35D5FDD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4C6-6D1C-40AE-B263-BA00136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47BF-D10D-4ECA-965C-D534E5D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D6A1-987F-4D99-835B-3F47075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6856-8179-4338-A3BD-6FA42ACF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11B8-D4F5-4DDC-B3E8-6DFB895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3DE5-A76B-4ECC-9615-5BB32B0D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134-A0EC-44F9-8802-9F8F7397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CB6-1344-4664-ADFB-8C6ABB4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3D0-E2E8-4533-A4A7-B098DCD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A0B-4907-44EE-B27E-D38D9B6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EB2-B3FC-4BC5-AD75-4C04C69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1B3-8EEA-409E-BC24-5FD9AA3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115-68D3-445D-A6A3-68D0692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314-C80E-4FD0-9985-38F83E2F3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2291-1F35-4C4F-91FB-3F1C413D31E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SAeztuqf_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Haciendo Comparasiones</a:t>
            </a:r>
            <a:br>
              <a:rPr sz="4400"/>
            </a:b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s-AR" sz="3600" spc="-1" strike="noStrike">
                <a:solidFill>
                  <a:srgbClr val="660066"/>
                </a:solidFill>
                <a:latin typeface="Tahoma"/>
              </a:rPr>
              <a:t>Para Nivel Prima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egan Kerste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Rebecca Single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Carrie Hint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58c"/>
                </a:solidFill>
                <a:latin typeface="Tahoma"/>
              </a:rPr>
              <a:t>Malerie Hugu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al quier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ow slides of things you’d rather have… 12 cookies or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 presento a ALE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ld to make 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e loves M&amp;Ms and Nu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practice our Numbers with 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e is going to be very helpful to us tod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ros con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¿Qu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comparar? (Pregunta a tu amigo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r, hablar, y escribir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labras de 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or que-bigg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or que-smaller th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gual a-equal 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Comparison Intro Vi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actica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666880" y="517356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s </a:t>
            </a:r>
            <a:r>
              <a:rPr b="0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mayor</a:t>
            </a: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 qu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3276720" y="914400"/>
            <a:ext cx="1828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239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28600" y="6172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blamos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337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inco es mayor que t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&amp;M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asamos los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rar n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ros con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¿Qu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comparar? (Pregunta a tu amigo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er, hablar, y escribir s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bolos con palabr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3:26:26Z</dcterms:created>
  <dc:creator>Rebecca</dc:creator>
  <dc:description/>
  <dc:language>en-US</dc:language>
  <cp:lastModifiedBy>Megan PC</cp:lastModifiedBy>
  <dcterms:modified xsi:type="dcterms:W3CDTF">2010-06-23T16:13:15Z</dcterms:modified>
  <cp:revision>13</cp:revision>
  <dc:subject/>
  <dc:title>PowerPoint Presentation</dc:title>
</cp:coreProperties>
</file>